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FCA-8392-49AD-85D6-DA6A8BA8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C01-4E33-4688-97BC-745B8126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D26-943E-4292-9D8F-3EDDC5DD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1C6-33BE-4D60-8DFF-5CE59DBE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C0A-3FE1-4B11-9CD4-77C3536A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D04-6E1C-40F7-AA5C-563D0D6A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817-B8F1-4466-A6A5-77E7D289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2FC-5FD4-43D5-A6A0-AACA98EE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7E1-3EC9-474E-BBE0-1A3CF51E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742-3109-4FF8-B726-F4546B97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CB6-3C4D-4371-AA1E-0D79589A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6B7-ED76-4F7A-8ABC-82F775B8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FDDA-9FD0-43A2-968F-635416C12C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0600" y="1371600"/>
            <a:ext cx="56671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Different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Expos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and/or Disea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8120" y="3525840"/>
            <a:ext cx="214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pl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ut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ula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784872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848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84836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784836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7924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3657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3992400"/>
            <a:ext cx="7848720" cy="554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7848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84872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609480"/>
            <a:ext cx="7848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4f55"/>
                </a:solidFill>
                <a:latin typeface="Times New Roman"/>
              </a:rPr>
              <a:t>Differential Misclassification of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20120" cy="2892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5360" y="2514600"/>
            <a:ext cx="67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now more realistically start with the obser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 and correct for misclassifi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7620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2819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39152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391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358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739152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05720" y="5334120"/>
            <a:ext cx="16002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9152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391520" cy="99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05720" y="41148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315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15:59:11Z</dcterms:modified>
  <cp:revision>216</cp:revision>
  <dc:subject/>
  <dc:title>Slide 1</dc:title>
</cp:coreProperties>
</file>